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687-AEC4-46BA-AA88-1BB426F4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0BE-EC1E-4C42-A79D-2A320AC4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61-8CB1-4FCE-A113-B24A88C0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09E-5E67-4ADE-B8B9-847A72CB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9400-4FCE-4A86-8DFF-D52CEDB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E6F-3710-4FB5-B45C-B844DA24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97D-5CB3-49E1-8541-6F3E175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B1E-B67A-4075-B44F-A2A9E0D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A76E-425D-46A1-99E7-E6761D1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9AB-EA55-4BFE-9226-BC7311B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A59-FF35-4E7A-B3E0-0ECBA78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5AA-C56C-4CDA-98B6-1C8EC189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D8C-70D8-41D6-B3D4-E304C05B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8B30-6673-4622-9708-FEE0FAD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EBD-A1CE-45F4-AC64-08E6E0B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24EA-B4EE-4532-B85F-D915D013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AB2E-ECB0-4F9B-A077-8110E773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500-2402-4F89-9186-EA239FC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3E9-059C-488F-A271-A1A2C9E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598-6A9F-405D-B48D-8960DAC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B7C-49D5-42F8-AB00-9C2ED79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046-F98F-4FF6-ABD8-82C7289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090-067F-489E-A837-66FE1CB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FB1-F8D9-4E80-B3A5-F560E60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2F7-4251-4BAB-893F-118946A614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6A01-A35A-466B-8874-16025CECCA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5210521&amp;s=1&amp;sc=1&amp;st=5352&amp;q=man%20cannot%20fly%5D&amp;spage=1&amp;hoid=e35fd855ee37c963a1569a512c6c4f5a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5246388&amp;s=1&amp;sc=1&amp;st=123&amp;q=mass%20media&amp;spage=1&amp;hoid=e2fee979407eced47e638fcf3aa8de91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4953138&amp;s=1&amp;sc=1&amp;st=11&amp;q=Cultural%20Minorities&amp;spage=1&amp;hoid=0ea1b3e0197e9eea799a4fd6d0430acb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The Importance of Culture In Human Developmen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contrast="-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Culture of Poverty to Educ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ary schools children of the urban poor attend clas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ipinos education looked upon as the means for social mo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ltural Dimensions of Learning, Teaching and Educational Proces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Music teacher with student playing violin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Social, cultural, and individual diver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stones in curricular design and develop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rricular flexi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Student reading book in class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Teachers need theoretical framework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ucation must be student cente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802"/>
                </a:solidFill>
                <a:latin typeface="Arial"/>
              </a:rPr>
              <a:t>Referenc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Psychological Foundations of Education.”2001.Goodwill Bookstore.Metro Mani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Education." Retrieved from http://www.edchange.org/multicultural/activityarch.html. July 7,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Teacher.” Retrieved from http://www.animationfactory.com. July 7,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What is Culture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ulture is what man has developed in terms of material object and the uses to which these objects are utilized to meet his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Man Can Set Aside Certain Laws of Na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classrooms, air conditioning or electric fans are installed to change the natural phenome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ificial rain can be produc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Native American caught by eagle">
            <a:hlinkClick r:id="rId1"/>
          </p:cNvPr>
          <p:cNvPicPr/>
          <p:nvPr/>
        </p:nvPicPr>
        <p:blipFill>
          <a:blip r:embed="rId2">
            <a:lum contrast="-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Man Can Overcome His Physical Handic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fly like the bi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swim as fast and as long as the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carry heavy we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802"/>
                </a:solidFill>
                <a:latin typeface="Arial"/>
              </a:rPr>
              <a:t>The Growth of Youth subcultur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a0802"/>
                </a:solidFill>
                <a:latin typeface="Arial"/>
              </a:rPr>
              <a:t>What is subculture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subculture is a set of people with a set of behaviors and beliefs, which could be distinct or hidden that differentiate them from larger cul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can be distinctive because of the age, race, ethnicity, class and or gend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Breaking news with revolving globe">
            <a:hlinkClick r:id="rId1"/>
          </p:cNvPr>
          <p:cNvPicPr/>
          <p:nvPr/>
        </p:nvPicPr>
        <p:blipFill>
          <a:blip r:embed="rId2">
            <a:lum contrast="-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Mass Medi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uster of behavior which may differ from those of the ad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me groups may behave and think differently from the r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on g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scription of Ways of Living and Behaving of Some of our Cultural Minoriti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udy of terms used by young peo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fference of Muslim and Christian Filipin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of dr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of wo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ference for certain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Middle Eastern Woman Carrying J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3733920"/>
            <a:ext cx="175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lture of Pove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rban Po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rban poor are city dwellers occupying slum communities and squatters are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4:49:59Z</dcterms:created>
  <dc:creator>Joval</dc:creator>
  <dc:description/>
  <dc:language>en-US</dc:language>
  <cp:lastModifiedBy>User</cp:lastModifiedBy>
  <dcterms:modified xsi:type="dcterms:W3CDTF">2008-07-26T07:14:18Z</dcterms:modified>
  <cp:revision>3</cp:revision>
  <dc:subject/>
  <dc:title>The Importance of Culture In Human Development</dc:title>
</cp:coreProperties>
</file>